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475F6-9B8C-4602-9E25-7AAE3A3F8B89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029C4-850B-4BE4-A369-876BA34137CB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9258-7F43-43CA-A07A-30E896CAE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EA55-33E7-43A4-85E3-9A4C90E26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C2CF-0DD6-4407-A9DA-B6170D60E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C325-1D69-4ACC-8755-2E0EC1F06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E0AC-EF36-41A8-AD7C-2DCAC63AB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FA0C-C2FE-454C-A85E-88499ED42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2635-BEC0-4D52-97E3-EBF3D3990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451E-704A-4905-AFCD-C67593C88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BD54-8601-494D-9874-ED29FC5E0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C2E3-33C2-4822-99FF-25927673C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6EF0-AB6B-4E33-84BF-C7A0F27B4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EF9E-3E4B-4758-AD1E-4038EF535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C4016-EA49-4C7C-B12D-DF91AC6AE11C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2481120"/>
          <a:ext cx="6205680" cy="124164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  <a:gridCol w="1143000"/>
                <a:gridCol w="714600"/>
                <a:gridCol w="718920"/>
                <a:gridCol w="1297080"/>
                <a:gridCol w="54936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4287960"/>
          <a:ext cx="6215040" cy="107316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78040"/>
                <a:gridCol w="695160"/>
              </a:tblGrid>
              <a:tr h="23292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5359320"/>
          <a:ext cx="6215040" cy="201312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719280"/>
                <a:gridCol w="695160"/>
              </a:tblGrid>
              <a:tr h="36612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3718080"/>
          <a:ext cx="6215040" cy="56808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19548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191448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357120" y="70344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1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357120" y="736776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987480"/>
                <a:gridCol w="1081080"/>
                <a:gridCol w="1008000"/>
                <a:gridCol w="1871640"/>
                <a:gridCol w="69516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* </a:t>
            </a: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7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3"/>
          <p:cNvSpPr/>
          <p:nvPr/>
        </p:nvSpPr>
        <p:spPr>
          <a:xfrm>
            <a:off x="5801760" y="35712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경력사원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기재 필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1"/>
          <p:cNvSpPr/>
          <p:nvPr/>
        </p:nvSpPr>
        <p:spPr>
          <a:xfrm>
            <a:off x="2746800" y="214200"/>
            <a:ext cx="137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2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계속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6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476280" y="509760"/>
          <a:ext cx="5952960" cy="26524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52380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2868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Rectangle 1"/>
          <p:cNvSpPr/>
          <p:nvPr/>
        </p:nvSpPr>
        <p:spPr>
          <a:xfrm>
            <a:off x="412920" y="7918200"/>
            <a:ext cx="5945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5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76280" y="3435480"/>
          <a:ext cx="5952960" cy="227952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227952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0" name="Picture 240" descr=""/>
          <p:cNvPicPr/>
          <p:nvPr/>
        </p:nvPicPr>
        <p:blipFill>
          <a:blip r:embed="rId1"/>
          <a:stretch/>
        </p:blipFill>
        <p:spPr>
          <a:xfrm>
            <a:off x="474840" y="4608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" name=""/>
          <p:cNvGraphicFramePr/>
          <p:nvPr/>
        </p:nvGraphicFramePr>
        <p:xfrm>
          <a:off x="500040" y="585792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3286080" y="6864480"/>
          <a:ext cx="3143160" cy="981000"/>
        </p:xfrm>
        <a:graphic>
          <a:graphicData uri="http://schemas.openxmlformats.org/drawingml/2006/table">
            <a:tbl>
              <a:tblPr/>
              <a:tblGrid>
                <a:gridCol w="785880"/>
                <a:gridCol w="785880"/>
                <a:gridCol w="785880"/>
                <a:gridCol w="785520"/>
              </a:tblGrid>
              <a:tr h="287280"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96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승진년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연봉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센티브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제외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500040" y="6858000"/>
          <a:ext cx="2722680" cy="987480"/>
        </p:xfrm>
        <a:graphic>
          <a:graphicData uri="http://schemas.openxmlformats.org/drawingml/2006/table">
            <a:tbl>
              <a:tblPr/>
              <a:tblGrid>
                <a:gridCol w="841320"/>
                <a:gridCol w="1881360"/>
              </a:tblGrid>
              <a:tr h="28908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연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7T02:54:13Z</dcterms:modified>
  <cp:revision>143</cp:revision>
  <dc:subject/>
  <dc:title>슬라이드 1</dc:title>
</cp:coreProperties>
</file>