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6858000" cy="9144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003400" y="744120"/>
            <a:ext cx="279072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F659E-8F9A-4971-8AA2-46224144BF01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" name="슬라이드 번호 개체 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3841B-56E3-4975-890F-E1004FD1AA16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518BA-7509-4387-B58C-00E273A4F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35A65-17D4-4B98-AF6D-FB5B397DE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9BA7F-21DC-4E13-B678-BB0EF4D20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62B94-34DD-4751-8259-337EEBB52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AC448-72E0-4F56-BCFB-BDB11D552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48798-F6F6-48EB-9285-D4DD8C37A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CFD64-B915-4D5D-B2AA-2717F2639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A0CF8-7CAD-4D60-B9F7-F32FD1ABC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39D7B-4CA5-49DC-AA8B-D3A85F57A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894D4-9E40-4442-9DB5-597706A08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979A1-1EC0-4D87-9BF8-DE7658721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6B7BD-927E-46A8-95F4-246A6DE0F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ABBA1-58B5-492A-A6BF-E289449AD034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2502720" y="214920"/>
            <a:ext cx="1800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1" lang="ko-KR" sz="25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입 사 지 원 서 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57120" y="2481120"/>
          <a:ext cx="6205680" cy="1241640"/>
        </p:xfrm>
        <a:graphic>
          <a:graphicData uri="http://schemas.openxmlformats.org/drawingml/2006/table">
            <a:tbl>
              <a:tblPr/>
              <a:tblGrid>
                <a:gridCol w="571680"/>
                <a:gridCol w="571320"/>
                <a:gridCol w="1143000"/>
                <a:gridCol w="714600"/>
                <a:gridCol w="718920"/>
                <a:gridCol w="1297080"/>
                <a:gridCol w="549360"/>
                <a:gridCol w="639720"/>
              </a:tblGrid>
              <a:tr h="365400">
                <a:tc row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대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 교 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  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  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득점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점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  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졸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분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등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357120" y="4287960"/>
          <a:ext cx="6215040" cy="1073160"/>
        </p:xfrm>
        <a:graphic>
          <a:graphicData uri="http://schemas.openxmlformats.org/drawingml/2006/table">
            <a:tbl>
              <a:tblPr/>
              <a:tblGrid>
                <a:gridCol w="571680"/>
                <a:gridCol w="1133280"/>
                <a:gridCol w="1081080"/>
                <a:gridCol w="642960"/>
                <a:gridCol w="1212840"/>
                <a:gridCol w="878040"/>
                <a:gridCol w="695160"/>
              </a:tblGrid>
              <a:tr h="232920"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능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점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357120" y="5359320"/>
          <a:ext cx="6215040" cy="2013120"/>
        </p:xfrm>
        <a:graphic>
          <a:graphicData uri="http://schemas.openxmlformats.org/drawingml/2006/table">
            <a:tbl>
              <a:tblPr/>
              <a:tblGrid>
                <a:gridCol w="571680"/>
                <a:gridCol w="988920"/>
                <a:gridCol w="2087640"/>
                <a:gridCol w="1152360"/>
                <a:gridCol w="719280"/>
                <a:gridCol w="695160"/>
              </a:tblGrid>
              <a:tr h="366120">
                <a:tc rowSpan="6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력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 회사명 및 부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~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미디어로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영지원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357120" y="3718080"/>
          <a:ext cx="6215040" cy="568080"/>
        </p:xfrm>
        <a:graphic>
          <a:graphicData uri="http://schemas.openxmlformats.org/drawingml/2006/table">
            <a:tbl>
              <a:tblPr/>
              <a:tblGrid>
                <a:gridCol w="571680"/>
                <a:gridCol w="809640"/>
                <a:gridCol w="690480"/>
                <a:gridCol w="690480"/>
                <a:gridCol w="690480"/>
                <a:gridCol w="690840"/>
                <a:gridCol w="690480"/>
                <a:gridCol w="690480"/>
                <a:gridCol w="690480"/>
              </a:tblGrid>
              <a:tr h="195480">
                <a:tc rowSpan="2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역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필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    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    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     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제사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복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357120" y="1914480"/>
          <a:ext cx="6215040" cy="571680"/>
        </p:xfrm>
        <a:graphic>
          <a:graphicData uri="http://schemas.openxmlformats.org/drawingml/2006/table">
            <a:tbl>
              <a:tblPr/>
              <a:tblGrid>
                <a:gridCol w="1243080"/>
                <a:gridCol w="1243080"/>
                <a:gridCol w="1243080"/>
                <a:gridCol w="784080"/>
                <a:gridCol w="1701720"/>
              </a:tblGrid>
              <a:tr h="30492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락처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핸드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E-mai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주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4" name=""/>
          <p:cNvGraphicFramePr/>
          <p:nvPr/>
        </p:nvGraphicFramePr>
        <p:xfrm>
          <a:off x="357120" y="703440"/>
          <a:ext cx="6215040" cy="1212840"/>
        </p:xfrm>
        <a:graphic>
          <a:graphicData uri="http://schemas.openxmlformats.org/drawingml/2006/table">
            <a:tbl>
              <a:tblPr/>
              <a:tblGrid>
                <a:gridCol w="912960"/>
                <a:gridCol w="1230120"/>
                <a:gridCol w="1500480"/>
                <a:gridCol w="1000080"/>
                <a:gridCol w="1571400"/>
              </a:tblGrid>
              <a:tr h="3031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  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생년월일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  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보훈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장애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357120" y="7367760"/>
          <a:ext cx="6215040" cy="1357200"/>
        </p:xfrm>
        <a:graphic>
          <a:graphicData uri="http://schemas.openxmlformats.org/drawingml/2006/table">
            <a:tbl>
              <a:tblPr/>
              <a:tblGrid>
                <a:gridCol w="571680"/>
                <a:gridCol w="987480"/>
                <a:gridCol w="1081080"/>
                <a:gridCol w="1008000"/>
                <a:gridCol w="1871640"/>
                <a:gridCol w="695160"/>
              </a:tblGrid>
              <a:tr h="246240">
                <a:tc rowSpan="5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가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관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동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" name="TextBox 11"/>
          <p:cNvSpPr/>
          <p:nvPr/>
        </p:nvSpPr>
        <p:spPr>
          <a:xfrm>
            <a:off x="266760" y="8734320"/>
            <a:ext cx="633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* </a:t>
            </a:r>
            <a:r>
              <a:rPr b="0" lang="ko-KR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상기 지원자의 개인정보는 당사 채용에 필요한 업무에만 활용됨을 알려 드립니다</a:t>
            </a: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7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3"/>
          <p:cNvSpPr/>
          <p:nvPr/>
        </p:nvSpPr>
        <p:spPr>
          <a:xfrm>
            <a:off x="5801760" y="357120"/>
            <a:ext cx="63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경력사원용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55560"/>
                <a:gridCol w="743040"/>
                <a:gridCol w="95400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기재 필수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" name="Rectangle 1"/>
          <p:cNvSpPr/>
          <p:nvPr/>
        </p:nvSpPr>
        <p:spPr>
          <a:xfrm>
            <a:off x="2746800" y="214200"/>
            <a:ext cx="137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2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55560"/>
                <a:gridCol w="743040"/>
                <a:gridCol w="95400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Rectangle 1"/>
          <p:cNvSpPr/>
          <p:nvPr/>
        </p:nvSpPr>
        <p:spPr>
          <a:xfrm>
            <a:off x="428760" y="21420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(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계속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)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6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476280" y="509760"/>
          <a:ext cx="5952960" cy="265248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523800">
                <a:tc gridSpan="2"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개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2868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직사유 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동기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사 후 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한 동기와 잘 할 수 있는 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,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그리고 그 일을 하기 위해 어떤 준비를 하였는지 말하시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" name="Rectangle 1"/>
          <p:cNvSpPr/>
          <p:nvPr/>
        </p:nvSpPr>
        <p:spPr>
          <a:xfrm>
            <a:off x="412920" y="7918200"/>
            <a:ext cx="59450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와 같이 귀사에 입사를 희망하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 기재내용이 사실과 다른 경우에는 귀사의 어떤 조치에도 이의를 제기치 않겠습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용 업무에 한해 입사지원서에 기입한 개인정보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화번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력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격사항 등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활용에 동의합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15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년  월  일        지원자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서명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476280" y="3435480"/>
          <a:ext cx="5952960" cy="227952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227952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무기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 성공 및 실패사례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인이 가장 열정과 관심을 쏟았던 분야 및 이를 통해 성취한 성공 및 실패 사례를 구체적으로 기술하시기 바랍니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0" name="Picture 240" descr=""/>
          <p:cNvPicPr/>
          <p:nvPr/>
        </p:nvPicPr>
        <p:blipFill>
          <a:blip r:embed="rId1"/>
          <a:stretch/>
        </p:blipFill>
        <p:spPr>
          <a:xfrm>
            <a:off x="474840" y="46080"/>
            <a:ext cx="949320" cy="42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1" name=""/>
          <p:cNvGraphicFramePr/>
          <p:nvPr/>
        </p:nvGraphicFramePr>
        <p:xfrm>
          <a:off x="500040" y="5857920"/>
          <a:ext cx="5907240" cy="896760"/>
        </p:xfrm>
        <a:graphic>
          <a:graphicData uri="http://schemas.openxmlformats.org/drawingml/2006/table">
            <a:tbl>
              <a:tblPr/>
              <a:tblGrid>
                <a:gridCol w="857160"/>
                <a:gridCol w="1000080"/>
                <a:gridCol w="2571840"/>
                <a:gridCol w="1478160"/>
              </a:tblGrid>
              <a:tr h="2077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근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읽은 도서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서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저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73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관련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 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2" name=""/>
          <p:cNvGraphicFramePr/>
          <p:nvPr/>
        </p:nvGraphicFramePr>
        <p:xfrm>
          <a:off x="3286080" y="6864480"/>
          <a:ext cx="3143160" cy="981000"/>
        </p:xfrm>
        <a:graphic>
          <a:graphicData uri="http://schemas.openxmlformats.org/drawingml/2006/table">
            <a:tbl>
              <a:tblPr/>
              <a:tblGrid>
                <a:gridCol w="785880"/>
                <a:gridCol w="785880"/>
                <a:gridCol w="785880"/>
                <a:gridCol w="785520"/>
              </a:tblGrid>
              <a:tr h="287280">
                <a:tc grid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96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승진년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408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연봉</a:t>
                      </a: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센티브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제외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3" name=""/>
          <p:cNvGraphicFramePr/>
          <p:nvPr/>
        </p:nvGraphicFramePr>
        <p:xfrm>
          <a:off x="500040" y="6858000"/>
          <a:ext cx="2722680" cy="987480"/>
        </p:xfrm>
        <a:graphic>
          <a:graphicData uri="http://schemas.openxmlformats.org/drawingml/2006/table">
            <a:tbl>
              <a:tblPr/>
              <a:tblGrid>
                <a:gridCol w="841320"/>
                <a:gridCol w="1881360"/>
              </a:tblGrid>
              <a:tr h="28908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9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연봉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09:49:00Z</dcterms:created>
  <dc:creator>LGDACOM</dc:creator>
  <dc:description/>
  <dc:language>en-US</dc:language>
  <cp:lastModifiedBy>medialog</cp:lastModifiedBy>
  <cp:lastPrinted>2011-01-27T06:54:10Z</cp:lastPrinted>
  <dcterms:modified xsi:type="dcterms:W3CDTF">2015-02-27T02:54:13Z</dcterms:modified>
  <cp:revision>143</cp:revision>
  <dc:subject/>
  <dc:title>슬라이드 1</dc:title>
</cp:coreProperties>
</file>